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2992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980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008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7980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008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19160" y="298440"/>
            <a:ext cx="6094440" cy="81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42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19160" y="412992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42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980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4008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1916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7980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4008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298440"/>
            <a:ext cx="6094440" cy="81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w="8049" h="16709">
                <a:moveTo>
                  <a:pt x="0" y="16708"/>
                </a:moveTo>
                <a:lnTo>
                  <a:pt x="8048" y="16708"/>
                </a:lnTo>
                <a:lnTo>
                  <a:pt x="8045" y="16285"/>
                </a:lnTo>
                <a:lnTo>
                  <a:pt x="8038" y="15862"/>
                </a:lnTo>
                <a:lnTo>
                  <a:pt x="8025" y="15439"/>
                </a:lnTo>
                <a:lnTo>
                  <a:pt x="8007" y="15018"/>
                </a:lnTo>
                <a:lnTo>
                  <a:pt x="7984" y="14597"/>
                </a:lnTo>
                <a:lnTo>
                  <a:pt x="7955" y="14178"/>
                </a:lnTo>
                <a:lnTo>
                  <a:pt x="7922" y="13760"/>
                </a:lnTo>
                <a:lnTo>
                  <a:pt x="7883" y="13345"/>
                </a:lnTo>
                <a:lnTo>
                  <a:pt x="7840" y="12931"/>
                </a:lnTo>
                <a:lnTo>
                  <a:pt x="7791" y="12520"/>
                </a:lnTo>
                <a:lnTo>
                  <a:pt x="7737" y="12112"/>
                </a:lnTo>
                <a:lnTo>
                  <a:pt x="7679" y="11706"/>
                </a:lnTo>
                <a:lnTo>
                  <a:pt x="7615" y="11304"/>
                </a:lnTo>
                <a:lnTo>
                  <a:pt x="7547" y="10905"/>
                </a:lnTo>
                <a:lnTo>
                  <a:pt x="7474" y="10510"/>
                </a:lnTo>
                <a:lnTo>
                  <a:pt x="7396" y="10119"/>
                </a:lnTo>
                <a:lnTo>
                  <a:pt x="7313" y="9732"/>
                </a:lnTo>
                <a:lnTo>
                  <a:pt x="7226" y="9350"/>
                </a:lnTo>
                <a:lnTo>
                  <a:pt x="7133" y="8972"/>
                </a:lnTo>
                <a:lnTo>
                  <a:pt x="7037" y="8600"/>
                </a:lnTo>
                <a:lnTo>
                  <a:pt x="6936" y="8232"/>
                </a:lnTo>
                <a:lnTo>
                  <a:pt x="6830" y="7870"/>
                </a:lnTo>
                <a:lnTo>
                  <a:pt x="6720" y="7514"/>
                </a:lnTo>
                <a:lnTo>
                  <a:pt x="6606" y="7163"/>
                </a:lnTo>
                <a:lnTo>
                  <a:pt x="6487" y="6819"/>
                </a:lnTo>
                <a:lnTo>
                  <a:pt x="6364" y="6481"/>
                </a:lnTo>
                <a:lnTo>
                  <a:pt x="6237" y="6150"/>
                </a:lnTo>
                <a:lnTo>
                  <a:pt x="6106" y="5825"/>
                </a:lnTo>
                <a:lnTo>
                  <a:pt x="5972" y="5507"/>
                </a:lnTo>
                <a:lnTo>
                  <a:pt x="5833" y="5197"/>
                </a:lnTo>
                <a:lnTo>
                  <a:pt x="5691" y="4894"/>
                </a:lnTo>
                <a:lnTo>
                  <a:pt x="5545" y="4598"/>
                </a:lnTo>
                <a:lnTo>
                  <a:pt x="5395" y="4310"/>
                </a:lnTo>
                <a:lnTo>
                  <a:pt x="5242" y="4031"/>
                </a:lnTo>
                <a:lnTo>
                  <a:pt x="5086" y="3759"/>
                </a:lnTo>
                <a:lnTo>
                  <a:pt x="4926" y="3496"/>
                </a:lnTo>
                <a:lnTo>
                  <a:pt x="4763" y="3241"/>
                </a:lnTo>
                <a:lnTo>
                  <a:pt x="4598" y="2995"/>
                </a:lnTo>
                <a:lnTo>
                  <a:pt x="4429" y="2757"/>
                </a:lnTo>
                <a:lnTo>
                  <a:pt x="4257" y="2529"/>
                </a:lnTo>
                <a:lnTo>
                  <a:pt x="4083" y="2310"/>
                </a:lnTo>
                <a:lnTo>
                  <a:pt x="3906" y="2099"/>
                </a:lnTo>
                <a:lnTo>
                  <a:pt x="3726" y="1899"/>
                </a:lnTo>
                <a:lnTo>
                  <a:pt x="3544" y="1707"/>
                </a:lnTo>
                <a:lnTo>
                  <a:pt x="3360" y="1526"/>
                </a:lnTo>
                <a:lnTo>
                  <a:pt x="3174" y="1354"/>
                </a:lnTo>
                <a:lnTo>
                  <a:pt x="2985" y="1192"/>
                </a:lnTo>
                <a:lnTo>
                  <a:pt x="2795" y="1040"/>
                </a:lnTo>
                <a:lnTo>
                  <a:pt x="2603" y="898"/>
                </a:lnTo>
                <a:lnTo>
                  <a:pt x="2409" y="766"/>
                </a:lnTo>
                <a:lnTo>
                  <a:pt x="2214" y="645"/>
                </a:lnTo>
                <a:lnTo>
                  <a:pt x="2017" y="533"/>
                </a:lnTo>
                <a:lnTo>
                  <a:pt x="1819" y="432"/>
                </a:lnTo>
                <a:lnTo>
                  <a:pt x="1620" y="342"/>
                </a:lnTo>
                <a:lnTo>
                  <a:pt x="1420" y="262"/>
                </a:lnTo>
                <a:lnTo>
                  <a:pt x="1219" y="193"/>
                </a:lnTo>
                <a:lnTo>
                  <a:pt x="1017" y="134"/>
                </a:lnTo>
                <a:lnTo>
                  <a:pt x="814" y="86"/>
                </a:lnTo>
                <a:lnTo>
                  <a:pt x="611" y="48"/>
                </a:lnTo>
                <a:lnTo>
                  <a:pt x="408" y="21"/>
                </a:lnTo>
                <a:lnTo>
                  <a:pt x="204" y="5"/>
                </a:lnTo>
                <a:lnTo>
                  <a:pt x="0" y="0"/>
                </a:lnTo>
                <a:lnTo>
                  <a:pt x="0" y="16708"/>
                </a:lnTo>
              </a:path>
            </a:pathLst>
          </a:custGeom>
          <a:gradFill rotWithShape="0">
            <a:gsLst>
              <a:gs pos="0">
                <a:srgbClr val="f2f9df"/>
              </a:gs>
              <a:gs pos="100000">
                <a:srgbClr val="cee6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6358680"/>
            <a:ext cx="190476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9cc00"/>
                </a:solidFill>
                <a:latin typeface="Garamond"/>
                <a:ea typeface="HG Mincho Light J"/>
              </a:rPr>
              <a:t>2003-07-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1280" y="6286320"/>
            <a:ext cx="289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9cc00"/>
                </a:solidFill>
                <a:latin typeface="Garamond"/>
                <a:ea typeface="HG Mincho Light J"/>
              </a:rPr>
              <a:t>© 2003 FSS, spol. s r.o. Všechna práva vyhrazen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35040" y="6358680"/>
            <a:ext cx="25524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9cc00"/>
                </a:solidFill>
                <a:latin typeface="Garamond"/>
                <a:ea typeface="HG Mincho Light J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Garamond"/>
              </a:rPr>
              <a:t>Click to edit the title text format</a:t>
            </a: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lvl="1" marL="741240" indent="-284040">
              <a:spcBef>
                <a:spcPts val="689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lvl="2" marL="1143000" indent="-228600">
              <a:spcBef>
                <a:spcPts val="689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lvl="3" marL="1600200" indent="-228600">
              <a:spcBef>
                <a:spcPts val="689"/>
              </a:spcBef>
              <a:buClr>
                <a:srgbClr val="99cc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lvl="4" marL="2057400" indent="-228600">
              <a:spcBef>
                <a:spcPts val="689"/>
              </a:spcBef>
              <a:buClr>
                <a:srgbClr val="99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lvl="5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lvl="6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1440"/>
          </a:xfrm>
          <a:prstGeom prst="line">
            <a:avLst/>
          </a:prstGeom>
          <a:ln w="12600">
            <a:solidFill>
              <a:srgbClr val="f2f9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w="8049" h="16709">
                <a:moveTo>
                  <a:pt x="0" y="16708"/>
                </a:moveTo>
                <a:lnTo>
                  <a:pt x="8048" y="16708"/>
                </a:lnTo>
                <a:lnTo>
                  <a:pt x="8045" y="16285"/>
                </a:lnTo>
                <a:lnTo>
                  <a:pt x="8038" y="15862"/>
                </a:lnTo>
                <a:lnTo>
                  <a:pt x="8025" y="15439"/>
                </a:lnTo>
                <a:lnTo>
                  <a:pt x="8007" y="15018"/>
                </a:lnTo>
                <a:lnTo>
                  <a:pt x="7984" y="14597"/>
                </a:lnTo>
                <a:lnTo>
                  <a:pt x="7955" y="14178"/>
                </a:lnTo>
                <a:lnTo>
                  <a:pt x="7922" y="13760"/>
                </a:lnTo>
                <a:lnTo>
                  <a:pt x="7883" y="13345"/>
                </a:lnTo>
                <a:lnTo>
                  <a:pt x="7840" y="12931"/>
                </a:lnTo>
                <a:lnTo>
                  <a:pt x="7791" y="12520"/>
                </a:lnTo>
                <a:lnTo>
                  <a:pt x="7737" y="12112"/>
                </a:lnTo>
                <a:lnTo>
                  <a:pt x="7679" y="11706"/>
                </a:lnTo>
                <a:lnTo>
                  <a:pt x="7615" y="11304"/>
                </a:lnTo>
                <a:lnTo>
                  <a:pt x="7547" y="10905"/>
                </a:lnTo>
                <a:lnTo>
                  <a:pt x="7474" y="10510"/>
                </a:lnTo>
                <a:lnTo>
                  <a:pt x="7396" y="10119"/>
                </a:lnTo>
                <a:lnTo>
                  <a:pt x="7313" y="9732"/>
                </a:lnTo>
                <a:lnTo>
                  <a:pt x="7226" y="9350"/>
                </a:lnTo>
                <a:lnTo>
                  <a:pt x="7133" y="8972"/>
                </a:lnTo>
                <a:lnTo>
                  <a:pt x="7037" y="8600"/>
                </a:lnTo>
                <a:lnTo>
                  <a:pt x="6936" y="8232"/>
                </a:lnTo>
                <a:lnTo>
                  <a:pt x="6830" y="7870"/>
                </a:lnTo>
                <a:lnTo>
                  <a:pt x="6720" y="7514"/>
                </a:lnTo>
                <a:lnTo>
                  <a:pt x="6606" y="7163"/>
                </a:lnTo>
                <a:lnTo>
                  <a:pt x="6487" y="6819"/>
                </a:lnTo>
                <a:lnTo>
                  <a:pt x="6364" y="6481"/>
                </a:lnTo>
                <a:lnTo>
                  <a:pt x="6237" y="6150"/>
                </a:lnTo>
                <a:lnTo>
                  <a:pt x="6106" y="5825"/>
                </a:lnTo>
                <a:lnTo>
                  <a:pt x="5972" y="5507"/>
                </a:lnTo>
                <a:lnTo>
                  <a:pt x="5833" y="5197"/>
                </a:lnTo>
                <a:lnTo>
                  <a:pt x="5691" y="4894"/>
                </a:lnTo>
                <a:lnTo>
                  <a:pt x="5545" y="4598"/>
                </a:lnTo>
                <a:lnTo>
                  <a:pt x="5395" y="4310"/>
                </a:lnTo>
                <a:lnTo>
                  <a:pt x="5242" y="4031"/>
                </a:lnTo>
                <a:lnTo>
                  <a:pt x="5086" y="3759"/>
                </a:lnTo>
                <a:lnTo>
                  <a:pt x="4926" y="3496"/>
                </a:lnTo>
                <a:lnTo>
                  <a:pt x="4763" y="3241"/>
                </a:lnTo>
                <a:lnTo>
                  <a:pt x="4598" y="2995"/>
                </a:lnTo>
                <a:lnTo>
                  <a:pt x="4429" y="2757"/>
                </a:lnTo>
                <a:lnTo>
                  <a:pt x="4257" y="2529"/>
                </a:lnTo>
                <a:lnTo>
                  <a:pt x="4083" y="2310"/>
                </a:lnTo>
                <a:lnTo>
                  <a:pt x="3906" y="2099"/>
                </a:lnTo>
                <a:lnTo>
                  <a:pt x="3726" y="1899"/>
                </a:lnTo>
                <a:lnTo>
                  <a:pt x="3544" y="1707"/>
                </a:lnTo>
                <a:lnTo>
                  <a:pt x="3360" y="1526"/>
                </a:lnTo>
                <a:lnTo>
                  <a:pt x="3174" y="1354"/>
                </a:lnTo>
                <a:lnTo>
                  <a:pt x="2985" y="1192"/>
                </a:lnTo>
                <a:lnTo>
                  <a:pt x="2795" y="1040"/>
                </a:lnTo>
                <a:lnTo>
                  <a:pt x="2603" y="898"/>
                </a:lnTo>
                <a:lnTo>
                  <a:pt x="2409" y="766"/>
                </a:lnTo>
                <a:lnTo>
                  <a:pt x="2214" y="645"/>
                </a:lnTo>
                <a:lnTo>
                  <a:pt x="2017" y="533"/>
                </a:lnTo>
                <a:lnTo>
                  <a:pt x="1819" y="432"/>
                </a:lnTo>
                <a:lnTo>
                  <a:pt x="1620" y="342"/>
                </a:lnTo>
                <a:lnTo>
                  <a:pt x="1420" y="262"/>
                </a:lnTo>
                <a:lnTo>
                  <a:pt x="1219" y="193"/>
                </a:lnTo>
                <a:lnTo>
                  <a:pt x="1017" y="134"/>
                </a:lnTo>
                <a:lnTo>
                  <a:pt x="814" y="86"/>
                </a:lnTo>
                <a:lnTo>
                  <a:pt x="611" y="48"/>
                </a:lnTo>
                <a:lnTo>
                  <a:pt x="408" y="21"/>
                </a:lnTo>
                <a:lnTo>
                  <a:pt x="204" y="5"/>
                </a:lnTo>
                <a:lnTo>
                  <a:pt x="0" y="0"/>
                </a:lnTo>
                <a:lnTo>
                  <a:pt x="0" y="16708"/>
                </a:lnTo>
              </a:path>
            </a:pathLst>
          </a:custGeom>
          <a:gradFill rotWithShape="0">
            <a:gsLst>
              <a:gs pos="0">
                <a:srgbClr val="f2f9df"/>
              </a:gs>
              <a:gs pos="100000">
                <a:srgbClr val="cee6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5640" y="1404720"/>
            <a:ext cx="755964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 - Insurance Managemen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84360" y="5877000"/>
            <a:ext cx="25578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Garamond"/>
              </a:rPr>
              <a:t>© 2003 FSS, spol. s r. o. Všechna práva vyhrazen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03880" y="339840"/>
            <a:ext cx="354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5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Garamond"/>
                <a:ea typeface="HG Mincho Light J"/>
              </a:rPr>
              <a:t>Financial Support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136600" y="3335400"/>
            <a:ext cx="6467760" cy="1100520"/>
            <a:chOff x="2136600" y="3335400"/>
            <a:chExt cx="6467760" cy="1100520"/>
          </a:xfrm>
        </p:grpSpPr>
        <p:sp>
          <p:nvSpPr>
            <p:cNvPr id="87" name=""/>
            <p:cNvSpPr/>
            <p:nvPr/>
          </p:nvSpPr>
          <p:spPr>
            <a:xfrm>
              <a:off x="2136600" y="3335400"/>
              <a:ext cx="6467760" cy="504720"/>
            </a:xfrm>
            <a:prstGeom prst="roundRect">
              <a:avLst>
                <a:gd name="adj" fmla="val 31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36600" y="3335400"/>
              <a:ext cx="646776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800" spc="-1" strike="noStrike">
                  <a:solidFill>
                    <a:srgbClr val="99cc00"/>
                  </a:solidFill>
                  <a:latin typeface="Garamond"/>
                  <a:ea typeface="HG Mincho Light J"/>
                </a:rPr>
                <a:t>Zjednodušení prodeje pojištění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549000"/>
            <a:ext cx="581796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Garamond"/>
              </a:rPr>
              <a:t>Shrnutí</a:t>
            </a:r>
            <a:endParaRPr b="1" lang="en-US" sz="40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2050920"/>
            <a:ext cx="578484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7160" indent="-317160">
              <a:lnSpc>
                <a:spcPct val="95000"/>
              </a:lnSpc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IMS je on-line řešení pro sjednávání a správu pojistných smluv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marL="317160" indent="-317160"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IMS je služba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marL="317160" indent="-317160"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IMS přináší nový pohled na vztah prodejce – prodejní kanál – pojistitel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marL="317160" indent="-317160"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IMS nepodporuje pouze obchod, ale také provoz a controling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marL="317160" indent="-317160"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IMS je 100% CORBA/J2EE systém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480"/>
            <a:ext cx="189684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Garamond"/>
              </a:rPr>
              <a:t>Závěr</a:t>
            </a:r>
            <a:endParaRPr b="1" lang="en-US" sz="40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 algn="ctr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cc00"/>
              </a:solidFill>
              <a:latin typeface="Garamond"/>
            </a:endParaRPr>
          </a:p>
          <a:p>
            <a:pPr marL="341280" indent="0" algn="ctr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Děkuji za pozornost.</a:t>
            </a:r>
            <a:endParaRPr b="0" lang="en-US" sz="3200" spc="-1" strike="noStrike">
              <a:solidFill>
                <a:srgbClr val="99cc00"/>
              </a:solidFill>
              <a:latin typeface="Garamond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cc00"/>
              </a:solidFill>
              <a:latin typeface="Garamond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cc00"/>
              </a:solidFill>
              <a:latin typeface="Garamond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cc00"/>
              </a:solidFill>
              <a:latin typeface="Garamond"/>
            </a:endParaRPr>
          </a:p>
          <a:p>
            <a:pPr marL="341280" indent="0">
              <a:lnSpc>
                <a:spcPct val="8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Garamond"/>
              </a:rPr>
              <a:t>Kontakt: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lvl="1" marL="741240" indent="-284040">
              <a:lnSpc>
                <a:spcPct val="80000"/>
              </a:lnSpc>
              <a:spcBef>
                <a:spcPts val="513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Garamond"/>
              </a:rPr>
              <a:t>Tel: +420 2</a:t>
            </a:r>
            <a:r>
              <a:rPr b="1" lang="cs-CZ" sz="2100" spc="-1" strike="noStrike">
                <a:solidFill>
                  <a:srgbClr val="000000"/>
                </a:solidFill>
                <a:latin typeface="Garamond"/>
              </a:rPr>
              <a:t>22</a:t>
            </a:r>
            <a:r>
              <a:rPr b="1" lang="en-GB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cs-CZ" sz="2100" spc="-1" strike="noStrike">
                <a:solidFill>
                  <a:srgbClr val="000000"/>
                </a:solidFill>
                <a:latin typeface="Garamond"/>
              </a:rPr>
              <a:t>119</a:t>
            </a:r>
            <a:r>
              <a:rPr b="1" lang="en-GB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cs-CZ" sz="2100" spc="-1" strike="noStrike">
                <a:solidFill>
                  <a:srgbClr val="000000"/>
                </a:solidFill>
                <a:latin typeface="Garamond"/>
              </a:rPr>
              <a:t>315</a:t>
            </a:r>
            <a:endParaRPr b="0" lang="en-US" sz="2100" spc="-1" strike="noStrike">
              <a:solidFill>
                <a:srgbClr val="99cc00"/>
              </a:solidFill>
              <a:latin typeface="Garamond"/>
            </a:endParaRPr>
          </a:p>
          <a:p>
            <a:pPr lvl="1" marL="741240" indent="-284040">
              <a:lnSpc>
                <a:spcPct val="80000"/>
              </a:lnSpc>
              <a:spcBef>
                <a:spcPts val="513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Garamond"/>
              </a:rPr>
              <a:t>Fax: +420 2</a:t>
            </a:r>
            <a:r>
              <a:rPr b="1" lang="cs-CZ" sz="2100" spc="-1" strike="noStrike">
                <a:solidFill>
                  <a:srgbClr val="000000"/>
                </a:solidFill>
                <a:latin typeface="Garamond"/>
              </a:rPr>
              <a:t>22</a:t>
            </a:r>
            <a:r>
              <a:rPr b="1" lang="en-GB" sz="2100" spc="-1" strike="noStrike">
                <a:solidFill>
                  <a:srgbClr val="000000"/>
                </a:solidFill>
                <a:latin typeface="Garamond"/>
              </a:rPr>
              <a:t> 11</a:t>
            </a:r>
            <a:r>
              <a:rPr b="1" lang="cs-CZ" sz="2100" spc="-1" strike="noStrike">
                <a:solidFill>
                  <a:srgbClr val="000000"/>
                </a:solidFill>
                <a:latin typeface="Garamond"/>
              </a:rPr>
              <a:t>9</a:t>
            </a:r>
            <a:r>
              <a:rPr b="1" lang="en-GB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cs-CZ" sz="2100" spc="-1" strike="noStrike">
                <a:solidFill>
                  <a:srgbClr val="000000"/>
                </a:solidFill>
                <a:latin typeface="Garamond"/>
              </a:rPr>
              <a:t>318</a:t>
            </a:r>
            <a:endParaRPr b="0" lang="en-US" sz="2100" spc="-1" strike="noStrike">
              <a:solidFill>
                <a:srgbClr val="99cc00"/>
              </a:solidFill>
              <a:latin typeface="Garamond"/>
            </a:endParaRPr>
          </a:p>
          <a:p>
            <a:pPr lvl="1" marL="741240" indent="-284040">
              <a:lnSpc>
                <a:spcPct val="80000"/>
              </a:lnSpc>
              <a:spcBef>
                <a:spcPts val="513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Garamond"/>
              </a:rPr>
              <a:t>E-mail: info@fss.cz</a:t>
            </a:r>
            <a:endParaRPr b="0" lang="en-US" sz="2100" spc="-1" strike="noStrike">
              <a:solidFill>
                <a:srgbClr val="99cc00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525600"/>
            <a:ext cx="581796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Garamond"/>
              </a:rPr>
              <a:t>Co je eIMS</a:t>
            </a:r>
            <a:r>
              <a:rPr b="0" lang="en-US" sz="4800" spc="-1" strike="noStrike">
                <a:solidFill>
                  <a:srgbClr val="99cc00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3040" y="1989000"/>
            <a:ext cx="5719680" cy="373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3920" indent="-313920">
              <a:lnSpc>
                <a:spcPct val="90000"/>
              </a:lnSpc>
              <a:spcBef>
                <a:spcPts val="587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Je komplexní služba v oblasti prodeje a správy pojištění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  <a:p>
            <a:pPr marL="313920" indent="-313920">
              <a:lnSpc>
                <a:spcPct val="90000"/>
              </a:lnSpc>
              <a:spcBef>
                <a:spcPts val="587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derní informační systém 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  <a:p>
            <a:pPr lvl="1" marL="681840" indent="-261000">
              <a:lnSpc>
                <a:spcPct val="90000"/>
              </a:lnSpc>
              <a:spcBef>
                <a:spcPts val="539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 vysokou mírou zabezpečení toku a správy dat</a:t>
            </a:r>
            <a:endParaRPr b="0" lang="en-US" sz="2200" spc="-1" strike="noStrike">
              <a:solidFill>
                <a:srgbClr val="99cc00"/>
              </a:solidFill>
              <a:latin typeface="Garamond"/>
            </a:endParaRPr>
          </a:p>
          <a:p>
            <a:pPr lvl="1" marL="681840" indent="-261000">
              <a:lnSpc>
                <a:spcPct val="90000"/>
              </a:lnSpc>
              <a:spcBef>
                <a:spcPts val="539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řipravený pro integraci s existujícími Centrálními informačními systémy (CIS)</a:t>
            </a:r>
            <a:endParaRPr b="0" lang="en-US" sz="2200" spc="-1" strike="noStrike">
              <a:solidFill>
                <a:srgbClr val="99cc00"/>
              </a:solidFill>
              <a:latin typeface="Garamond"/>
            </a:endParaRPr>
          </a:p>
          <a:p>
            <a:pPr lvl="1" marL="681840" indent="-261000">
              <a:lnSpc>
                <a:spcPct val="90000"/>
              </a:lnSpc>
              <a:spcBef>
                <a:spcPts val="539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inimální nároky na klientské počítače</a:t>
            </a:r>
            <a:endParaRPr b="0" lang="en-US" sz="2200" spc="-1" strike="noStrike">
              <a:solidFill>
                <a:srgbClr val="99cc00"/>
              </a:solidFill>
              <a:latin typeface="Garamond"/>
            </a:endParaRPr>
          </a:p>
          <a:p>
            <a:pPr marL="313920" indent="-313920">
              <a:lnSpc>
                <a:spcPct val="90000"/>
              </a:lnSpc>
              <a:spcBef>
                <a:spcPts val="587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ystém je navržen pro současný přístup libovolného počtu klientů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71640" y="609480"/>
            <a:ext cx="55692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Garamond"/>
              </a:rPr>
              <a:t>Proč vznikl tento systém</a:t>
            </a:r>
            <a:endParaRPr b="1" lang="en-US" sz="40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7600" indent="-327600">
              <a:lnSpc>
                <a:spcPct val="95000"/>
              </a:lnSpc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ejednotnost aplikační a metodické podpory u prodejců pojištění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marL="327600" indent="-327600"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oblém s aktualizací v čase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marL="327600" indent="-327600"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Kvalita sjednávaných smluv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marL="327600" indent="-327600"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vidence rozsáhlých prodejních sítí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marL="327600" indent="-327600"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Zpětná informovanost prodejců o životním cyklu pojistné smlouvy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marL="32760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65160" y="549000"/>
            <a:ext cx="5871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Garamond"/>
              </a:rPr>
              <a:t>Komu a v čem je eIMS přínosem</a:t>
            </a:r>
            <a:endParaRPr b="1" lang="en-US" sz="40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5784840" cy="41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ojistitel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lvl="1" marL="733680" indent="-281160">
              <a:spcBef>
                <a:spcPts val="638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Obchod</a:t>
            </a:r>
            <a:endParaRPr b="0" lang="en-US" sz="2600" spc="-1" strike="noStrike">
              <a:solidFill>
                <a:srgbClr val="99cc00"/>
              </a:solidFill>
              <a:latin typeface="Garamond"/>
            </a:endParaRPr>
          </a:p>
          <a:p>
            <a:pPr lvl="2" marL="1131480" indent="-226080">
              <a:spcBef>
                <a:spcPts val="587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žnost rychle reagovat na změny na trhu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  <a:p>
            <a:pPr lvl="2" marL="1131480" indent="-226080">
              <a:spcBef>
                <a:spcPts val="587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žnost sledovat výkonnost prodejců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  <a:p>
            <a:pPr lvl="2" marL="1131480" indent="-226080">
              <a:spcBef>
                <a:spcPts val="587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žnost sledovat růst nebo naopak pokles produkce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  <a:p>
            <a:pPr lvl="2" marL="1131480" indent="-226080">
              <a:spcBef>
                <a:spcPts val="587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žnost sledovat kvalitu produkce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  <a:p>
            <a:pPr lvl="3" marL="1584000" indent="0"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99cc00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71280" y="549000"/>
            <a:ext cx="53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Garamond"/>
              </a:rPr>
              <a:t>Komu a v čem je eIMS přínosem</a:t>
            </a:r>
            <a:endParaRPr b="1" lang="en-US" sz="40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19160" y="2050920"/>
            <a:ext cx="5568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6120" indent="-278280">
              <a:lnSpc>
                <a:spcPct val="90000"/>
              </a:lnSpc>
              <a:spcBef>
                <a:spcPts val="638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rovoz</a:t>
            </a:r>
            <a:endParaRPr b="0" lang="en-US" sz="2600" spc="-1" strike="noStrike">
              <a:solidFill>
                <a:srgbClr val="99cc00"/>
              </a:solidFill>
              <a:latin typeface="Garamond"/>
            </a:endParaRPr>
          </a:p>
          <a:p>
            <a:pPr lvl="2" marL="1119960" indent="-223920">
              <a:lnSpc>
                <a:spcPct val="90000"/>
              </a:lnSpc>
              <a:spcBef>
                <a:spcPts val="587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žnost vytvářet a evidovat intervence v reálném čase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  <a:p>
            <a:pPr lvl="2" marL="1119960" indent="-223920">
              <a:lnSpc>
                <a:spcPct val="90000"/>
              </a:lnSpc>
              <a:spcBef>
                <a:spcPts val="587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formovat prodejce o chystaných změnách, které se týkají provozních záležitostí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  <a:p>
            <a:pPr lvl="2" marL="1119960" indent="-223920">
              <a:lnSpc>
                <a:spcPct val="90000"/>
              </a:lnSpc>
              <a:spcBef>
                <a:spcPts val="587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dpadají problémy se synchronizaci dat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  <a:p>
            <a:pPr lvl="2" marL="1119960" indent="-223920">
              <a:lnSpc>
                <a:spcPct val="90000"/>
              </a:lnSpc>
              <a:spcBef>
                <a:spcPts val="587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entrální řešení umožňuje automatickou aktualizaci nových verzí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79560" y="545760"/>
            <a:ext cx="5191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Garamond"/>
              </a:rPr>
              <a:t>Komu a v čem je eIMS přínosem</a:t>
            </a:r>
            <a:endParaRPr b="1" lang="en-US" sz="40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5568840" cy="209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38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Controling</a:t>
            </a:r>
            <a:endParaRPr b="0" lang="en-US" sz="2600" spc="-1" strike="noStrike">
              <a:solidFill>
                <a:srgbClr val="99cc00"/>
              </a:solidFill>
              <a:latin typeface="Garamond"/>
            </a:endParaRPr>
          </a:p>
          <a:p>
            <a:pPr lvl="2" marL="1143000" indent="-228600">
              <a:spcBef>
                <a:spcPts val="587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řehled o kvalitě sjednávaných obchodů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  <a:p>
            <a:pPr lvl="2" marL="1143000" indent="-228600">
              <a:spcBef>
                <a:spcPts val="587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Zpřehlednění toků informací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71640" y="539280"/>
            <a:ext cx="5137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Garamond"/>
              </a:rPr>
              <a:t>Komu a v čem je eIMS přínosem</a:t>
            </a:r>
            <a:endParaRPr b="1" lang="en-US" sz="40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97200" y="1988640"/>
            <a:ext cx="5735520" cy="40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18920" indent="-275400">
              <a:lnSpc>
                <a:spcPct val="90000"/>
              </a:lnSpc>
              <a:spcBef>
                <a:spcPts val="638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Finance</a:t>
            </a:r>
            <a:endParaRPr b="0" lang="en-US" sz="2600" spc="-1" strike="noStrike">
              <a:solidFill>
                <a:srgbClr val="99cc00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539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Úspora nákladů za náročné distribuce SW</a:t>
            </a:r>
            <a:endParaRPr b="0" lang="en-US" sz="2200" spc="-1" strike="noStrike">
              <a:solidFill>
                <a:srgbClr val="99cc00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539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Úspora nákladů spojených s dohledáváním chyb</a:t>
            </a:r>
            <a:endParaRPr b="0" lang="en-US" sz="2200" spc="-1" strike="noStrike">
              <a:solidFill>
                <a:srgbClr val="99cc00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539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Zmenšení objemu storen pro neplacení pojistného</a:t>
            </a:r>
            <a:endParaRPr b="0" lang="en-US" sz="2200" spc="-1" strike="noStrike">
              <a:solidFill>
                <a:srgbClr val="99cc00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539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Úspora nákladů na vývoj vlastního SW na podporu prodeje pro prodejce</a:t>
            </a:r>
            <a:endParaRPr b="0" lang="en-US" sz="2200" spc="-1" strike="noStrike">
              <a:solidFill>
                <a:srgbClr val="99cc00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539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Není nutné již jednou natypované smlouvy znovu typovat do CIS</a:t>
            </a:r>
            <a:endParaRPr b="0" lang="en-US" sz="2200" spc="-1" strike="noStrike">
              <a:solidFill>
                <a:srgbClr val="99cc00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87480" y="556920"/>
            <a:ext cx="5281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Garamond"/>
              </a:rPr>
              <a:t>Komu a v čem je eIMS přínosem</a:t>
            </a:r>
            <a:endParaRPr b="1" lang="en-US" sz="40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8640"/>
            <a:ext cx="5784840" cy="37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3920" indent="-313920">
              <a:lnSpc>
                <a:spcPct val="95000"/>
              </a:lnSpc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rodejce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lvl="1" marL="681840" indent="-261000">
              <a:spcBef>
                <a:spcPts val="638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Jednotný ucelený systém pro podporu prodeje</a:t>
            </a:r>
            <a:endParaRPr b="0" lang="en-US" sz="2600" spc="-1" strike="noStrike">
              <a:solidFill>
                <a:srgbClr val="99cc00"/>
              </a:solidFill>
              <a:latin typeface="Garamond"/>
            </a:endParaRPr>
          </a:p>
          <a:p>
            <a:pPr lvl="1" marL="681840" indent="-261000">
              <a:spcBef>
                <a:spcPts val="638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ůže se soustředit pouze na obchod</a:t>
            </a:r>
            <a:endParaRPr b="0" lang="en-US" sz="2600" spc="-1" strike="noStrike">
              <a:solidFill>
                <a:srgbClr val="99cc00"/>
              </a:solidFill>
              <a:latin typeface="Garamond"/>
            </a:endParaRPr>
          </a:p>
          <a:p>
            <a:pPr lvl="1" marL="681840" indent="-261000">
              <a:spcBef>
                <a:spcPts val="638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Je průběžně informován o proplacenosti jednotlivých smluv</a:t>
            </a:r>
            <a:endParaRPr b="0" lang="en-US" sz="2600" spc="-1" strike="noStrike">
              <a:solidFill>
                <a:srgbClr val="99cc00"/>
              </a:solidFill>
              <a:latin typeface="Garamond"/>
            </a:endParaRPr>
          </a:p>
          <a:p>
            <a:pPr lvl="1" marL="681840" indent="-261000">
              <a:spcBef>
                <a:spcPts val="638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ůže rychleji reagovat na případné intervence</a:t>
            </a:r>
            <a:endParaRPr b="0" lang="en-US" sz="2600" spc="-1" strike="noStrike">
              <a:solidFill>
                <a:srgbClr val="99cc00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403280" y="692280"/>
            <a:ext cx="7201080" cy="518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ngr</cp:lastModifiedBy>
  <dcterms:modified xsi:type="dcterms:W3CDTF">2006-05-15T08:52:33Z</dcterms:modified>
  <cp:revision>1</cp:revision>
  <dc:subject/>
  <dc:title>e - Insurance Management System</dc:title>
</cp:coreProperties>
</file>