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298440"/>
            <a:ext cx="6094440" cy="81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298440"/>
            <a:ext cx="6094440" cy="81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8049" h="16709">
                <a:moveTo>
                  <a:pt x="0" y="16708"/>
                </a:moveTo>
                <a:lnTo>
                  <a:pt x="8048" y="16708"/>
                </a:lnTo>
                <a:lnTo>
                  <a:pt x="8045" y="16285"/>
                </a:lnTo>
                <a:lnTo>
                  <a:pt x="8038" y="15862"/>
                </a:lnTo>
                <a:lnTo>
                  <a:pt x="8025" y="15439"/>
                </a:lnTo>
                <a:lnTo>
                  <a:pt x="8007" y="15018"/>
                </a:lnTo>
                <a:lnTo>
                  <a:pt x="7984" y="14597"/>
                </a:lnTo>
                <a:lnTo>
                  <a:pt x="7955" y="14178"/>
                </a:lnTo>
                <a:lnTo>
                  <a:pt x="7922" y="13760"/>
                </a:lnTo>
                <a:lnTo>
                  <a:pt x="7883" y="13345"/>
                </a:lnTo>
                <a:lnTo>
                  <a:pt x="7840" y="12931"/>
                </a:lnTo>
                <a:lnTo>
                  <a:pt x="7791" y="12520"/>
                </a:lnTo>
                <a:lnTo>
                  <a:pt x="7737" y="12112"/>
                </a:lnTo>
                <a:lnTo>
                  <a:pt x="7679" y="11706"/>
                </a:lnTo>
                <a:lnTo>
                  <a:pt x="7615" y="11304"/>
                </a:lnTo>
                <a:lnTo>
                  <a:pt x="7547" y="10905"/>
                </a:lnTo>
                <a:lnTo>
                  <a:pt x="7474" y="10510"/>
                </a:lnTo>
                <a:lnTo>
                  <a:pt x="7396" y="10119"/>
                </a:lnTo>
                <a:lnTo>
                  <a:pt x="7313" y="9732"/>
                </a:lnTo>
                <a:lnTo>
                  <a:pt x="7226" y="9350"/>
                </a:lnTo>
                <a:lnTo>
                  <a:pt x="7133" y="8972"/>
                </a:lnTo>
                <a:lnTo>
                  <a:pt x="7037" y="8600"/>
                </a:lnTo>
                <a:lnTo>
                  <a:pt x="6936" y="8232"/>
                </a:lnTo>
                <a:lnTo>
                  <a:pt x="6830" y="7870"/>
                </a:lnTo>
                <a:lnTo>
                  <a:pt x="6720" y="7514"/>
                </a:lnTo>
                <a:lnTo>
                  <a:pt x="6606" y="7163"/>
                </a:lnTo>
                <a:lnTo>
                  <a:pt x="6487" y="6819"/>
                </a:lnTo>
                <a:lnTo>
                  <a:pt x="6364" y="6481"/>
                </a:lnTo>
                <a:lnTo>
                  <a:pt x="6237" y="6150"/>
                </a:lnTo>
                <a:lnTo>
                  <a:pt x="6106" y="5825"/>
                </a:lnTo>
                <a:lnTo>
                  <a:pt x="5972" y="5507"/>
                </a:lnTo>
                <a:lnTo>
                  <a:pt x="5833" y="5197"/>
                </a:lnTo>
                <a:lnTo>
                  <a:pt x="5691" y="4894"/>
                </a:lnTo>
                <a:lnTo>
                  <a:pt x="5545" y="4598"/>
                </a:lnTo>
                <a:lnTo>
                  <a:pt x="5395" y="4310"/>
                </a:lnTo>
                <a:lnTo>
                  <a:pt x="5242" y="4031"/>
                </a:lnTo>
                <a:lnTo>
                  <a:pt x="5086" y="3759"/>
                </a:lnTo>
                <a:lnTo>
                  <a:pt x="4926" y="3496"/>
                </a:lnTo>
                <a:lnTo>
                  <a:pt x="4763" y="3241"/>
                </a:lnTo>
                <a:lnTo>
                  <a:pt x="4598" y="2995"/>
                </a:lnTo>
                <a:lnTo>
                  <a:pt x="4429" y="2757"/>
                </a:lnTo>
                <a:lnTo>
                  <a:pt x="4257" y="2529"/>
                </a:lnTo>
                <a:lnTo>
                  <a:pt x="4083" y="2310"/>
                </a:lnTo>
                <a:lnTo>
                  <a:pt x="3906" y="2099"/>
                </a:lnTo>
                <a:lnTo>
                  <a:pt x="3726" y="1899"/>
                </a:lnTo>
                <a:lnTo>
                  <a:pt x="3544" y="1707"/>
                </a:lnTo>
                <a:lnTo>
                  <a:pt x="3360" y="1526"/>
                </a:lnTo>
                <a:lnTo>
                  <a:pt x="3174" y="1354"/>
                </a:lnTo>
                <a:lnTo>
                  <a:pt x="2985" y="1192"/>
                </a:lnTo>
                <a:lnTo>
                  <a:pt x="2795" y="1040"/>
                </a:lnTo>
                <a:lnTo>
                  <a:pt x="2603" y="898"/>
                </a:lnTo>
                <a:lnTo>
                  <a:pt x="2409" y="766"/>
                </a:lnTo>
                <a:lnTo>
                  <a:pt x="2214" y="645"/>
                </a:lnTo>
                <a:lnTo>
                  <a:pt x="2017" y="533"/>
                </a:lnTo>
                <a:lnTo>
                  <a:pt x="1819" y="432"/>
                </a:lnTo>
                <a:lnTo>
                  <a:pt x="1620" y="342"/>
                </a:lnTo>
                <a:lnTo>
                  <a:pt x="1420" y="262"/>
                </a:lnTo>
                <a:lnTo>
                  <a:pt x="1219" y="193"/>
                </a:lnTo>
                <a:lnTo>
                  <a:pt x="1017" y="134"/>
                </a:lnTo>
                <a:lnTo>
                  <a:pt x="814" y="86"/>
                </a:lnTo>
                <a:lnTo>
                  <a:pt x="611" y="48"/>
                </a:lnTo>
                <a:lnTo>
                  <a:pt x="408" y="21"/>
                </a:lnTo>
                <a:lnTo>
                  <a:pt x="204" y="5"/>
                </a:lnTo>
                <a:lnTo>
                  <a:pt x="0" y="0"/>
                </a:lnTo>
                <a:lnTo>
                  <a:pt x="0" y="16708"/>
                </a:lnTo>
              </a:path>
            </a:pathLst>
          </a:custGeom>
          <a:gradFill rotWithShape="0">
            <a:gsLst>
              <a:gs pos="0">
                <a:srgbClr val="f2f9df"/>
              </a:gs>
              <a:gs pos="100000">
                <a:srgbClr val="cee6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6404760"/>
            <a:ext cx="19047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cc00"/>
                </a:solidFill>
                <a:latin typeface="Garamond"/>
                <a:ea typeface="HG Mincho Light J"/>
              </a:rPr>
              <a:t>2003-07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1280" y="6332400"/>
            <a:ext cx="2895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cc00"/>
                </a:solidFill>
                <a:latin typeface="Garamond"/>
                <a:ea typeface="HG Mincho Light J"/>
              </a:rPr>
              <a:t>© 2003 FSS, spol. s r.o. Všechna práva vyhraze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27200" y="6404760"/>
            <a:ext cx="70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cc00"/>
                </a:solidFill>
                <a:latin typeface="Garamond"/>
                <a:ea typeface="HG Mincho Light J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19160" y="298440"/>
            <a:ext cx="6094440" cy="17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Garamond"/>
              </a:rPr>
              <a:t>Click to edit the title text format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741240" indent="-284040">
              <a:spcBef>
                <a:spcPts val="68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2" marL="1143000" indent="-228600">
              <a:spcBef>
                <a:spcPts val="689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3" marL="1600200" indent="-228600">
              <a:spcBef>
                <a:spcPts val="689"/>
              </a:spcBef>
              <a:buClr>
                <a:srgbClr val="99cc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4" marL="2057400" indent="-228600">
              <a:spcBef>
                <a:spcPts val="689"/>
              </a:spcBef>
              <a:buClr>
                <a:srgbClr val="99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1440"/>
          </a:xfrm>
          <a:prstGeom prst="line">
            <a:avLst/>
          </a:prstGeom>
          <a:ln w="12600">
            <a:solidFill>
              <a:srgbClr val="f2f9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8049" h="16709">
                <a:moveTo>
                  <a:pt x="0" y="16708"/>
                </a:moveTo>
                <a:lnTo>
                  <a:pt x="8048" y="16708"/>
                </a:lnTo>
                <a:lnTo>
                  <a:pt x="8045" y="16285"/>
                </a:lnTo>
                <a:lnTo>
                  <a:pt x="8038" y="15862"/>
                </a:lnTo>
                <a:lnTo>
                  <a:pt x="8025" y="15439"/>
                </a:lnTo>
                <a:lnTo>
                  <a:pt x="8007" y="15018"/>
                </a:lnTo>
                <a:lnTo>
                  <a:pt x="7984" y="14597"/>
                </a:lnTo>
                <a:lnTo>
                  <a:pt x="7955" y="14178"/>
                </a:lnTo>
                <a:lnTo>
                  <a:pt x="7922" y="13760"/>
                </a:lnTo>
                <a:lnTo>
                  <a:pt x="7883" y="13345"/>
                </a:lnTo>
                <a:lnTo>
                  <a:pt x="7840" y="12931"/>
                </a:lnTo>
                <a:lnTo>
                  <a:pt x="7791" y="12520"/>
                </a:lnTo>
                <a:lnTo>
                  <a:pt x="7737" y="12112"/>
                </a:lnTo>
                <a:lnTo>
                  <a:pt x="7679" y="11706"/>
                </a:lnTo>
                <a:lnTo>
                  <a:pt x="7615" y="11304"/>
                </a:lnTo>
                <a:lnTo>
                  <a:pt x="7547" y="10905"/>
                </a:lnTo>
                <a:lnTo>
                  <a:pt x="7474" y="10510"/>
                </a:lnTo>
                <a:lnTo>
                  <a:pt x="7396" y="10119"/>
                </a:lnTo>
                <a:lnTo>
                  <a:pt x="7313" y="9732"/>
                </a:lnTo>
                <a:lnTo>
                  <a:pt x="7226" y="9350"/>
                </a:lnTo>
                <a:lnTo>
                  <a:pt x="7133" y="8972"/>
                </a:lnTo>
                <a:lnTo>
                  <a:pt x="7037" y="8600"/>
                </a:lnTo>
                <a:lnTo>
                  <a:pt x="6936" y="8232"/>
                </a:lnTo>
                <a:lnTo>
                  <a:pt x="6830" y="7870"/>
                </a:lnTo>
                <a:lnTo>
                  <a:pt x="6720" y="7514"/>
                </a:lnTo>
                <a:lnTo>
                  <a:pt x="6606" y="7163"/>
                </a:lnTo>
                <a:lnTo>
                  <a:pt x="6487" y="6819"/>
                </a:lnTo>
                <a:lnTo>
                  <a:pt x="6364" y="6481"/>
                </a:lnTo>
                <a:lnTo>
                  <a:pt x="6237" y="6150"/>
                </a:lnTo>
                <a:lnTo>
                  <a:pt x="6106" y="5825"/>
                </a:lnTo>
                <a:lnTo>
                  <a:pt x="5972" y="5507"/>
                </a:lnTo>
                <a:lnTo>
                  <a:pt x="5833" y="5197"/>
                </a:lnTo>
                <a:lnTo>
                  <a:pt x="5691" y="4894"/>
                </a:lnTo>
                <a:lnTo>
                  <a:pt x="5545" y="4598"/>
                </a:lnTo>
                <a:lnTo>
                  <a:pt x="5395" y="4310"/>
                </a:lnTo>
                <a:lnTo>
                  <a:pt x="5242" y="4031"/>
                </a:lnTo>
                <a:lnTo>
                  <a:pt x="5086" y="3759"/>
                </a:lnTo>
                <a:lnTo>
                  <a:pt x="4926" y="3496"/>
                </a:lnTo>
                <a:lnTo>
                  <a:pt x="4763" y="3241"/>
                </a:lnTo>
                <a:lnTo>
                  <a:pt x="4598" y="2995"/>
                </a:lnTo>
                <a:lnTo>
                  <a:pt x="4429" y="2757"/>
                </a:lnTo>
                <a:lnTo>
                  <a:pt x="4257" y="2529"/>
                </a:lnTo>
                <a:lnTo>
                  <a:pt x="4083" y="2310"/>
                </a:lnTo>
                <a:lnTo>
                  <a:pt x="3906" y="2099"/>
                </a:lnTo>
                <a:lnTo>
                  <a:pt x="3726" y="1899"/>
                </a:lnTo>
                <a:lnTo>
                  <a:pt x="3544" y="1707"/>
                </a:lnTo>
                <a:lnTo>
                  <a:pt x="3360" y="1526"/>
                </a:lnTo>
                <a:lnTo>
                  <a:pt x="3174" y="1354"/>
                </a:lnTo>
                <a:lnTo>
                  <a:pt x="2985" y="1192"/>
                </a:lnTo>
                <a:lnTo>
                  <a:pt x="2795" y="1040"/>
                </a:lnTo>
                <a:lnTo>
                  <a:pt x="2603" y="898"/>
                </a:lnTo>
                <a:lnTo>
                  <a:pt x="2409" y="766"/>
                </a:lnTo>
                <a:lnTo>
                  <a:pt x="2214" y="645"/>
                </a:lnTo>
                <a:lnTo>
                  <a:pt x="2017" y="533"/>
                </a:lnTo>
                <a:lnTo>
                  <a:pt x="1819" y="432"/>
                </a:lnTo>
                <a:lnTo>
                  <a:pt x="1620" y="342"/>
                </a:lnTo>
                <a:lnTo>
                  <a:pt x="1420" y="262"/>
                </a:lnTo>
                <a:lnTo>
                  <a:pt x="1219" y="193"/>
                </a:lnTo>
                <a:lnTo>
                  <a:pt x="1017" y="134"/>
                </a:lnTo>
                <a:lnTo>
                  <a:pt x="814" y="86"/>
                </a:lnTo>
                <a:lnTo>
                  <a:pt x="611" y="48"/>
                </a:lnTo>
                <a:lnTo>
                  <a:pt x="408" y="21"/>
                </a:lnTo>
                <a:lnTo>
                  <a:pt x="204" y="5"/>
                </a:lnTo>
                <a:lnTo>
                  <a:pt x="0" y="0"/>
                </a:lnTo>
                <a:lnTo>
                  <a:pt x="0" y="16708"/>
                </a:lnTo>
              </a:path>
            </a:pathLst>
          </a:custGeom>
          <a:gradFill rotWithShape="0">
            <a:gsLst>
              <a:gs pos="0">
                <a:srgbClr val="f2f9df"/>
              </a:gs>
              <a:gs pos="100000">
                <a:srgbClr val="cee6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404760"/>
            <a:ext cx="19047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cc00"/>
                </a:solidFill>
                <a:latin typeface="Garamond"/>
                <a:ea typeface="HG Mincho Light J"/>
              </a:rPr>
              <a:t>2003-07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6332400"/>
            <a:ext cx="2895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cc00"/>
                </a:solidFill>
                <a:latin typeface="Garamond"/>
                <a:ea typeface="HG Mincho Light J"/>
              </a:rPr>
              <a:t>© 2003 FSS, spol. s r.o. Všechna práva vyhraze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27200" y="6404760"/>
            <a:ext cx="70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cc00"/>
                </a:solidFill>
                <a:latin typeface="Garamond"/>
                <a:ea typeface="HG Mincho Light J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4120" y="1383840"/>
            <a:ext cx="7661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- Insurance Managemen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1295280" cy="84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09680" y="5473800"/>
            <a:ext cx="594000" cy="838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971800" y="5473800"/>
            <a:ext cx="800280" cy="753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067280" y="5516640"/>
            <a:ext cx="1164960" cy="536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435640" y="54450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588000" y="5445000"/>
            <a:ext cx="885960" cy="696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709040" y="5445000"/>
            <a:ext cx="895320" cy="689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4848120" y="447840"/>
            <a:ext cx="3900600" cy="585000"/>
            <a:chOff x="4848120" y="447840"/>
            <a:chExt cx="3900600" cy="585000"/>
          </a:xfrm>
        </p:grpSpPr>
        <p:sp>
          <p:nvSpPr>
            <p:cNvPr id="95" name=""/>
            <p:cNvSpPr/>
            <p:nvPr/>
          </p:nvSpPr>
          <p:spPr>
            <a:xfrm>
              <a:off x="4848120" y="447840"/>
              <a:ext cx="3900600" cy="31716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48120" y="447840"/>
              <a:ext cx="390060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741240" indent="-284040">
                <a:lnSpc>
                  <a:spcPct val="80000"/>
                </a:lnSpc>
                <a:spcBef>
                  <a:spcPts val="587"/>
                </a:spcBef>
                <a:tabLst>
                  <a:tab algn="l" pos="0"/>
                  <a:tab algn="l" pos="741240"/>
                  <a:tab algn="l" pos="1655640"/>
                  <a:tab algn="l" pos="2570040"/>
                  <a:tab algn="l" pos="3484440"/>
                  <a:tab algn="l" pos="4398840"/>
                  <a:tab algn="l" pos="5313240"/>
                  <a:tab algn="l" pos="6227640"/>
                  <a:tab algn="l" pos="7142040"/>
                  <a:tab algn="l" pos="8056440"/>
                  <a:tab algn="l" pos="8970840"/>
                  <a:tab algn="l" pos="9885240"/>
                  <a:tab algn="l" pos="10799640"/>
                </a:tabLst>
              </a:pPr>
              <a:r>
                <a:rPr b="0" lang="en-GB" sz="2400" spc="-1" strike="noStrike">
                  <a:solidFill>
                    <a:srgbClr val="99cc00"/>
                  </a:solidFill>
                  <a:latin typeface="Garamond"/>
                  <a:ea typeface="HG Mincho Light J"/>
                </a:rPr>
                <a:t>Financial 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38680" y="3357720"/>
            <a:ext cx="3936960" cy="1100520"/>
            <a:chOff x="4738680" y="3357720"/>
            <a:chExt cx="3936960" cy="1100520"/>
          </a:xfrm>
        </p:grpSpPr>
        <p:sp>
          <p:nvSpPr>
            <p:cNvPr id="98" name=""/>
            <p:cNvSpPr/>
            <p:nvPr/>
          </p:nvSpPr>
          <p:spPr>
            <a:xfrm>
              <a:off x="4738680" y="3357720"/>
              <a:ext cx="3936960" cy="647640"/>
            </a:xfrm>
            <a:prstGeom prst="roundRect">
              <a:avLst>
                <a:gd name="adj" fmla="val 2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38680" y="3357720"/>
              <a:ext cx="393696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>
                <a:lnSpc>
                  <a:spcPct val="95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800" spc="-1" strike="noStrike">
                  <a:solidFill>
                    <a:srgbClr val="99cc00"/>
                  </a:solidFill>
                  <a:latin typeface="Garamond"/>
                  <a:ea typeface="HG Mincho Light J"/>
                </a:rPr>
                <a:t>Struktura systému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6360" y="966960"/>
            <a:ext cx="4200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Struktura eIMS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657440"/>
            <a:ext cx="578484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terní moduly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733680" indent="-28116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žnost on-line napojení na moduly dodávané společností IBS expert s.r.o.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2" marL="1131480" indent="-22608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axExpert (odhad cen ojetých vozů)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131480" indent="-22608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BAS (odhad výše škody poškozených vozů)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1" marL="733680" indent="-28116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žnost přímé komunikace se všemi systémy, které dodržují standardy CORBA, EJB, RMI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520" y="901800"/>
            <a:ext cx="54720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Výkon eIMS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653840"/>
            <a:ext cx="578484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0760" indent="-320760">
              <a:lnSpc>
                <a:spcPct val="95000"/>
              </a:lnSpc>
              <a:spcBef>
                <a:spcPts val="587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DBMS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1" marL="696600" indent="-266760"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IBM UDB2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1" marL="696600" indent="-266760"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aramond"/>
              </a:rPr>
              <a:t>ORACLE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1" marL="696600" indent="-266760"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aramond"/>
              </a:rPr>
              <a:t>atd.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marL="320760" indent="-320760">
              <a:spcBef>
                <a:spcPts val="587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plikační Server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1" marL="696600" indent="-266760"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Linux SuSE nebo jiný UNIX systém, NT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1" marL="696600" indent="-266760"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aramond"/>
              </a:rPr>
              <a:t>JBoss, BEA WebLogic, Sun ONE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marL="320760" indent="-320760">
              <a:spcBef>
                <a:spcPts val="587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Klient - C++, HTML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marL="320760" indent="-320760">
              <a:spcBef>
                <a:spcPts val="587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Škálovatelnost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901800"/>
            <a:ext cx="546084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Výkon eIMS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628280"/>
            <a:ext cx="5784840" cy="20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0240" indent="-300240">
              <a:lnSpc>
                <a:spcPct val="95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stém je navržen pro současný přístup libovolného počtu klientů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00240" indent="-30024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inimální přenos dat mezi klientem a aplikačním serverem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24120" y="50436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aramond"/>
              </a:rPr>
              <a:t>Příklad začlenění eIMS do Vaší podnikové sítě</a:t>
            </a:r>
            <a:endParaRPr b="1" lang="en-US" sz="40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79640" y="1782720"/>
            <a:ext cx="662472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640" y="901800"/>
            <a:ext cx="609624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Bezpečnost eIMS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657080"/>
            <a:ext cx="57848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zpečnost na úrovni aplikace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711360" indent="-27252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Ověření 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řihlašovací jméno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slo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bchodní místo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1" marL="711360" indent="-27252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parátní ověření do RDBMS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1" marL="711360" indent="-27252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žnost definování speciálních rolí pro přístup k jednotlivým modulům resp. formulářům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901800"/>
            <a:ext cx="48484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Bezpečnost eIMS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657080"/>
            <a:ext cx="5784840" cy="42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7080" indent="-30708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zpečnost přenosu dat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667080" indent="-25560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nterprise standard SSL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1" marL="667080" indent="-25560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SA 1024 bits (možnost i 2048 bits)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1" marL="667080" indent="-25560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žnost využití stávajícího PKI nebo vytvoření vlastní CA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1" marL="667080" indent="-25560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Každé obchodní místo resp. makléř má svou sadu klíčů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marL="307080" indent="-30708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AN/WAN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587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žnost libovolného překladu adres nebo průchodů přes firewall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578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 algn="ct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Děkuji za pozornost.</a:t>
            </a: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Garamond"/>
              </a:rPr>
              <a:t>Kontakt: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741240" indent="-284040">
              <a:lnSpc>
                <a:spcPct val="80000"/>
              </a:lnSpc>
              <a:spcBef>
                <a:spcPts val="513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Tel: +420 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222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119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315</a:t>
            </a:r>
            <a:endParaRPr b="0" lang="en-US" sz="2100" spc="-1" strike="noStrike">
              <a:solidFill>
                <a:srgbClr val="99cc00"/>
              </a:solidFill>
              <a:latin typeface="Garamond"/>
            </a:endParaRPr>
          </a:p>
          <a:p>
            <a:pPr lvl="1" marL="741240" indent="-284040">
              <a:lnSpc>
                <a:spcPct val="80000"/>
              </a:lnSpc>
              <a:spcBef>
                <a:spcPts val="513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Fax: +420 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222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11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9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cs-CZ" sz="2100" spc="-1" strike="noStrike">
                <a:solidFill>
                  <a:srgbClr val="000000"/>
                </a:solidFill>
                <a:latin typeface="Garamond"/>
              </a:rPr>
              <a:t>318</a:t>
            </a:r>
            <a:endParaRPr b="0" lang="en-US" sz="2100" spc="-1" strike="noStrike">
              <a:solidFill>
                <a:srgbClr val="99cc00"/>
              </a:solidFill>
              <a:latin typeface="Garamond"/>
            </a:endParaRPr>
          </a:p>
          <a:p>
            <a:pPr lvl="1" marL="741240" indent="-284040">
              <a:lnSpc>
                <a:spcPct val="80000"/>
              </a:lnSpc>
              <a:spcBef>
                <a:spcPts val="513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E-mail: info@fss.cz</a:t>
            </a:r>
            <a:endParaRPr b="0" lang="en-US" sz="2100" spc="-1" strike="noStrike">
              <a:solidFill>
                <a:srgbClr val="99cc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911160"/>
            <a:ext cx="189684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Obsah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657440"/>
            <a:ext cx="355284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SS, spol. s r. o.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 je eIMS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chitektura systému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ruktura systému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ýkon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zpečnost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885960"/>
            <a:ext cx="44830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FSS, spol. s r. o.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628280"/>
            <a:ext cx="5784840" cy="303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7600" indent="-327600">
              <a:lnSpc>
                <a:spcPct val="95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Mladý dynamický kolektiv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7600" indent="-3276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Znalost problematiky správy a sjednávání pojištění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7600" indent="-3276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Vývoj a správa distribuovaných systémů (CORBA, 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J2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7600" indent="-3276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Konzultace v oblasti bezpečnosti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520" y="901800"/>
            <a:ext cx="31924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Co je eIMS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1671120"/>
            <a:ext cx="5784840" cy="27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7160" indent="-317160">
              <a:lnSpc>
                <a:spcPct val="90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stém pro správu pojistných smluv a podporu prodeje v prostředí Internet/Extranet/Intranet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lvl="1" marL="689040" indent="-26388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 pojišťovny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1" marL="689040" indent="-26388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 makléřské společnosti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  <a:p>
            <a:pPr lvl="1" marL="689040" indent="-263880">
              <a:lnSpc>
                <a:spcPct val="90000"/>
              </a:lnSpc>
              <a:spcBef>
                <a:spcPts val="638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 leasingové společnosti</a:t>
            </a:r>
            <a:endParaRPr b="0" lang="en-US" sz="26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71040"/>
            <a:ext cx="5065560" cy="12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Architektura eIMS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916360" y="1989000"/>
            <a:ext cx="3200400" cy="800280"/>
            <a:chOff x="2916360" y="1989000"/>
            <a:chExt cx="3200400" cy="800280"/>
          </a:xfrm>
        </p:grpSpPr>
        <p:sp>
          <p:nvSpPr>
            <p:cNvPr id="111" name=""/>
            <p:cNvSpPr/>
            <p:nvPr/>
          </p:nvSpPr>
          <p:spPr>
            <a:xfrm>
              <a:off x="2916360" y="1989000"/>
              <a:ext cx="3200400" cy="800280"/>
            </a:xfrm>
            <a:prstGeom prst="roundRect">
              <a:avLst>
                <a:gd name="adj" fmla="val 194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6360" y="1989000"/>
              <a:ext cx="32004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Garamond"/>
                  <a:ea typeface="HG Mincho Light J"/>
                </a:rPr>
                <a:t>Prezentační vrst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Garamond"/>
                  <a:ea typeface="HG Mincho Light J"/>
                </a:rPr>
                <a:t>(HTML, GU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916360" y="3360600"/>
            <a:ext cx="3200400" cy="800280"/>
            <a:chOff x="2916360" y="3360600"/>
            <a:chExt cx="3200400" cy="800280"/>
          </a:xfrm>
        </p:grpSpPr>
        <p:sp>
          <p:nvSpPr>
            <p:cNvPr id="114" name=""/>
            <p:cNvSpPr/>
            <p:nvPr/>
          </p:nvSpPr>
          <p:spPr>
            <a:xfrm>
              <a:off x="2916360" y="3360600"/>
              <a:ext cx="3200400" cy="800280"/>
            </a:xfrm>
            <a:prstGeom prst="roundRect">
              <a:avLst>
                <a:gd name="adj" fmla="val 194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6360" y="3360600"/>
              <a:ext cx="3200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Garamond"/>
                  <a:ea typeface="HG Mincho Light J"/>
                </a:rPr>
                <a:t>Business logi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602160" y="4732200"/>
            <a:ext cx="1942920" cy="1030320"/>
            <a:chOff x="3602160" y="4732200"/>
            <a:chExt cx="1942920" cy="1030320"/>
          </a:xfrm>
        </p:grpSpPr>
        <p:sp>
          <p:nvSpPr>
            <p:cNvPr id="117" name=""/>
            <p:cNvSpPr/>
            <p:nvPr/>
          </p:nvSpPr>
          <p:spPr>
            <a:xfrm>
              <a:off x="3602160" y="4732200"/>
              <a:ext cx="1942920" cy="103032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2160" y="4989600"/>
              <a:ext cx="194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Garamond"/>
                  <a:ea typeface="HG Mincho Light J"/>
                </a:rPr>
                <a:t>Datová základ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516560" y="278928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6560" y="416088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6492960" y="4332240"/>
            <a:ext cx="1589040" cy="920880"/>
            <a:chOff x="6492960" y="4332240"/>
            <a:chExt cx="1589040" cy="920880"/>
          </a:xfrm>
        </p:grpSpPr>
        <p:sp>
          <p:nvSpPr>
            <p:cNvPr id="123" name=""/>
            <p:cNvSpPr/>
            <p:nvPr/>
          </p:nvSpPr>
          <p:spPr>
            <a:xfrm>
              <a:off x="6492960" y="4332240"/>
              <a:ext cx="1589040" cy="920880"/>
            </a:xfrm>
            <a:prstGeom prst="roundRect">
              <a:avLst>
                <a:gd name="adj" fmla="val 16551"/>
              </a:avLst>
            </a:prstGeom>
            <a:solidFill>
              <a:srgbClr val="ff45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98440" y="4659840"/>
              <a:ext cx="1389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Garamond"/>
                  <a:ea typeface="HG Mincho Light J"/>
                </a:rPr>
                <a:t>Externí modu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5" name=""/>
          <p:cNvCxnSpPr>
            <a:endCxn id="123" idx="0"/>
          </p:cNvCxnSpPr>
          <p:nvPr/>
        </p:nvCxnSpPr>
        <p:spPr>
          <a:xfrm>
            <a:off x="6116760" y="3760560"/>
            <a:ext cx="1172160" cy="57204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602400" y="2637000"/>
            <a:ext cx="18572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2920" y="836640"/>
            <a:ext cx="576108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eIMS – toky informací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95640" y="1743120"/>
            <a:ext cx="640872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901800"/>
            <a:ext cx="58021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Architektura eIMS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614240"/>
            <a:ext cx="5784840" cy="26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4000" indent="-324000">
              <a:lnSpc>
                <a:spcPct val="95000"/>
              </a:lnSpc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Vícevrstvá architektura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4000" indent="-3240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nterprise standard 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J2EE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4000" indent="-3240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nterprise standard SSL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4000" indent="-3240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nterprise standardy Java &amp; C++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  <a:p>
            <a:pPr marL="324000" indent="-324000">
              <a:spcBef>
                <a:spcPts val="68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RACLE, MS SQL,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BM UDB2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 atd.</a:t>
            </a:r>
            <a:endParaRPr b="0" lang="en-US" sz="28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16360" y="932040"/>
            <a:ext cx="568800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y řešení e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11280" y="1779480"/>
            <a:ext cx="619308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520" y="920880"/>
            <a:ext cx="54244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Garamond"/>
              </a:rPr>
              <a:t>Struktura eIMS</a:t>
            </a:r>
            <a:endParaRPr b="1" lang="en-US" sz="4800" spc="-1" strike="noStrike">
              <a:solidFill>
                <a:srgbClr val="99cc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700280"/>
            <a:ext cx="578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3920" indent="-313920">
              <a:lnSpc>
                <a:spcPct val="80000"/>
              </a:lnSpc>
              <a:spcBef>
                <a:spcPts val="587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IMS Engine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lnSpc>
                <a:spcPct val="8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Obecná část, nezávislá na implementaci jednotlivých pojistných produktů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marL="313920" indent="-313920">
              <a:lnSpc>
                <a:spcPct val="80000"/>
              </a:lnSpc>
              <a:spcBef>
                <a:spcPts val="587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ní moduly</a:t>
            </a:r>
            <a:endParaRPr b="0" lang="en-US" sz="24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lnSpc>
                <a:spcPct val="8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dpora prodeje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lnSpc>
                <a:spcPct val="8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alý MIS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lnSpc>
                <a:spcPct val="8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dministrace systému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1" marL="681840" indent="-261000">
              <a:lnSpc>
                <a:spcPct val="80000"/>
              </a:lnSpc>
              <a:spcBef>
                <a:spcPts val="539"/>
              </a:spcBef>
              <a:buClr>
                <a:srgbClr val="99cc00"/>
              </a:buClr>
              <a:buSzPct val="65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alší moduly pro správu pojistných smluv</a:t>
            </a:r>
            <a:endParaRPr b="0" lang="en-US" sz="2200" spc="-1" strike="noStrike">
              <a:solidFill>
                <a:srgbClr val="99cc00"/>
              </a:solidFill>
              <a:latin typeface="Garamond"/>
            </a:endParaRPr>
          </a:p>
          <a:p>
            <a:pPr lvl="2" marL="1051560" indent="-210240">
              <a:lnSpc>
                <a:spcPct val="80000"/>
              </a:lnSpc>
              <a:spcBef>
                <a:spcPts val="488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vizní systém </a:t>
            </a:r>
            <a:endParaRPr b="0" lang="en-US" sz="2000" spc="-1" strike="noStrike">
              <a:solidFill>
                <a:srgbClr val="99cc00"/>
              </a:solidFill>
              <a:latin typeface="Garamond"/>
            </a:endParaRPr>
          </a:p>
          <a:p>
            <a:pPr lvl="2" marL="1051560" indent="-210240">
              <a:lnSpc>
                <a:spcPct val="80000"/>
              </a:lnSpc>
              <a:spcBef>
                <a:spcPts val="488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ráva pojistných smluv</a:t>
            </a:r>
            <a:endParaRPr b="0" lang="en-US" sz="2000" spc="-1" strike="noStrike">
              <a:solidFill>
                <a:srgbClr val="99cc00"/>
              </a:solidFill>
              <a:latin typeface="Garamond"/>
            </a:endParaRPr>
          </a:p>
          <a:p>
            <a:pPr lvl="2" marL="1051560" indent="-210240">
              <a:lnSpc>
                <a:spcPct val="80000"/>
              </a:lnSpc>
              <a:spcBef>
                <a:spcPts val="488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vozní účetnictví</a:t>
            </a:r>
            <a:endParaRPr b="0" lang="en-US" sz="2000" spc="-1" strike="noStrike">
              <a:solidFill>
                <a:srgbClr val="99cc00"/>
              </a:solidFill>
              <a:latin typeface="Garamond"/>
            </a:endParaRPr>
          </a:p>
          <a:p>
            <a:pPr lvl="2" marL="1051560" indent="-210240">
              <a:lnSpc>
                <a:spcPct val="80000"/>
              </a:lnSpc>
              <a:spcBef>
                <a:spcPts val="488"/>
              </a:spcBef>
              <a:buClr>
                <a:srgbClr val="99cc00"/>
              </a:buClr>
              <a:buSzPct val="65000"/>
              <a:buFont typeface="Wingdings" charset="2"/>
              <a:buChar char="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vidence a likvidace škod</a:t>
            </a:r>
            <a:endParaRPr b="0" lang="en-US" sz="2000" spc="-1" strike="noStrike">
              <a:solidFill>
                <a:srgbClr val="99cc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3320" cy="46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gr</cp:lastModifiedBy>
  <dcterms:modified xsi:type="dcterms:W3CDTF">2006-05-15T08:51:55Z</dcterms:modified>
  <cp:revision>3</cp:revision>
  <dc:subject/>
  <dc:title>e - Insurance Management System</dc:title>
</cp:coreProperties>
</file>